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29FE-4E10-4DC5-BD18-046874B03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6DCA-4916-46D6-8F8A-4A729E349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907A-3565-4749-BEA4-EE832C8AC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928A-DA79-4617-953C-A3D636C59E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5E6D-E776-41C3-80CC-93BB709E78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19C8-51EC-4A1E-A191-75170F9BD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E428-C118-49A7-B81C-CA98AABE4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C8D3-4429-493C-853F-564C59158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1216-8061-44AC-9951-424F090D7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0256-A159-4309-A3E9-2A4E96DBF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0AEE-3B39-4C55-925B-C36BD21FC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BEC8-E1F3-42EC-A110-1768DB1ED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6607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E2E6-FED2-4033-ACE9-5250FB70B5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-3240" y="-1260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328760" y="2505240"/>
            <a:ext cx="6108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PREDSTAVITEV IZVAJANJA NAČ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VREDNOTNEJA OPERATIVNEGA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RAZVOJA ČLOVEŠKIH VIR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ZA OBDOBJE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29DE-E823-4D42-A99E-F21666A088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ravokotnik 4"/>
          <p:cNvSpPr/>
          <p:nvPr/>
        </p:nvSpPr>
        <p:spPr>
          <a:xfrm>
            <a:off x="379440" y="2217600"/>
            <a:ext cx="813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PRIPOROČ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umestitev klavzule glede pridobivanja podatkov o zaposlitvenem statusu za potrebe vrednotenja za obdobje 18 mesecev po prenehanju pogodbenih obveznosti v vse pogodbe s končnimi upravičenci pred njihovo sklenitvij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preučiti je treba, na kakšen način si lahko Organ upravljanja ali posredniška telesa zagotovijo enostaven dostop in križanje različnih podatkovnih baze (ISARR, ZPIS, podatkovno bazo ZRSZ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5C08-323A-4E6E-8ADC-A01665C4E9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ravokotnik 4"/>
          <p:cNvSpPr/>
          <p:nvPr/>
        </p:nvSpPr>
        <p:spPr>
          <a:xfrm>
            <a:off x="755640" y="1346040"/>
            <a:ext cx="74883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nn-NO" sz="1600" spc="-1" strike="noStrike">
                <a:solidFill>
                  <a:srgbClr val="000000"/>
                </a:solidFill>
                <a:latin typeface="Arial"/>
                <a:ea typeface="Arial"/>
              </a:rPr>
              <a:t>regled uresničevanja strateških ciljev visokega šolstva v RS, ki so podlaga za načrtovanje in izvajanje ukrepov v OP 2014 – 2020 s področja visokega šolstv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začetek vrednotenja predviden v juliju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konec vseh aktivnosti do novembra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avokotnik 5"/>
          <p:cNvSpPr/>
          <p:nvPr/>
        </p:nvSpPr>
        <p:spPr>
          <a:xfrm>
            <a:off x="2567160" y="1136520"/>
            <a:ext cx="26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OSTOPKI V TE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ravokotnik 6"/>
          <p:cNvSpPr/>
          <p:nvPr/>
        </p:nvSpPr>
        <p:spPr>
          <a:xfrm>
            <a:off x="755640" y="3475080"/>
            <a:ext cx="777708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MEN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Cilj strateškega vrednotenja dveh evalvacij v okviru Pregled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strateških ciljev visokega šolstva v RS, ki so podlaga za načrtovanje in izvajanje ukrepov v OP 2014 – 2020 s področja visokega šolstva je podati kvalitativno oc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ciljev nacionalnega programa visokega šolstva na treh prednostnih področij ReNPVŠ11-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cij na področju visokega šolstva v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 RČ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programskem obdobju 2007 –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3FA9-2456-43EE-939F-736F281A3C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avokotnik 4"/>
          <p:cNvSpPr/>
          <p:nvPr/>
        </p:nvSpPr>
        <p:spPr>
          <a:xfrm>
            <a:off x="179280" y="1281240"/>
            <a:ext cx="849636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MET VREDNOT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uresničevanja nacionalnega programa visokega šolstva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kakovosti visokega šolstva, zlasti ukrepov številka 19, 20, 21, 22, 23, 24, 2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internacionalizacije visokega šolstva, zlasti ukrepov številka 28, 29, 30, 31, 32, 33, 34, 3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a ReNPVŠ11-20 številka 5a (sodelovanje visokošolskih institucij z gospodarstvom in negospodarstv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drugih ukrepov ReNPVŠ11-20, ki so relevantni za načrtovanje oziroma izvajanje ukrepov v OP 2014 – 2020 s področja visokega šolstv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doseganja ciljev in meril ReNPVŠ11-20 na naslednjih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ključnih deležnikov o doseganju ciljev in meril ReNPVŠ11-20, prvenstveno na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operacij na področju visokega šolstva v Operativnem programu razvoja človeških virov v programskem obdobju 2007 – 2013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iz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zvedbe in ocena uspešnosti operaci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log izboljšav za načrtovanje in izvedbo ukrepov v programskem obdobju 2014 – 202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25C0-27E0-48DE-83E3-B347A935B6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ravokotnik 4"/>
          <p:cNvSpPr/>
          <p:nvPr/>
        </p:nvSpPr>
        <p:spPr>
          <a:xfrm>
            <a:off x="539640" y="1569960"/>
            <a:ext cx="734544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VIDENE AKTIVNOSTI V 201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Evalvacija politike aktivacije brezposelnih (predlog OECD "Connecting People with Jobs"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DDSZ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trategija razvoja  sistema poklicnega izobraževanja v RS, ki so vključeni v OP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IZ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Youth Employment Initiative (YEI) (do 31. 12.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činkovita in uspešna javna uprava in Zdravstvo v informacijski dobi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ponovitev postop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iprava Načrta vrednotenj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tek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78A8-1FC1-4377-A1C1-4104C48213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286000" y="1496880"/>
            <a:ext cx="457200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0ECA-7620-4F8F-BE41-22F7A05ACF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0320" y="2485800"/>
            <a:ext cx="7521840" cy="3422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ajanja nač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edenih vrednotenj oz. vrednotenj v te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209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6b6bcf"/>
                </a:solidFill>
                <a:latin typeface="Arial"/>
              </a:rPr>
              <a:t>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8C4A-97EE-4B04-B834-BB281C9144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9208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222268"/>
                </a:solidFill>
                <a:latin typeface="Arial"/>
              </a:rPr>
              <a:t>SREDSTVA TP (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98600" y="1892160"/>
          <a:ext cx="6095880" cy="1981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6b6bcf"/>
                          </a:solidFill>
                          <a:latin typeface="Angsana New"/>
                          <a:ea typeface="Angsana New"/>
                        </a:rPr>
                        <a:t>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P SREDST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(SLO in EU del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2,9 m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ZA VREDNOTENJ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500.000 oz. cca. 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49" name="Picture 18" descr=""/>
          <p:cNvPicPr/>
          <p:nvPr/>
        </p:nvPicPr>
        <p:blipFill>
          <a:blip r:embed="rId1"/>
          <a:stretch/>
        </p:blipFill>
        <p:spPr>
          <a:xfrm>
            <a:off x="324000" y="37288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1387440" y="4483080"/>
            <a:ext cx="610236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CB42-2A46-4E38-BF72-F05CA3137E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712520"/>
            <a:ext cx="8497800" cy="5148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DE60-0F29-46FC-8463-133DD3B695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641600"/>
            <a:ext cx="8497800" cy="5148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914D-4FBA-427C-A038-C0841AEAE7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grada vsebine 1"/>
          <p:cNvSpPr/>
          <p:nvPr/>
        </p:nvSpPr>
        <p:spPr>
          <a:xfrm>
            <a:off x="457200" y="2144880"/>
            <a:ext cx="8229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krepov za spodbujanje raziskovalno razvojnih aktivnosti v gospodarstvu in institucijah znanja (ESRR&amp;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CRP PROJEK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itucionalna evalvacija Zavoda RS za zapos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največjih programov aktivne politike zaposlovanja, vključno z ukrepi proti gospodarski in finančni kr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4400" y="1064880"/>
            <a:ext cx="7855200" cy="585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2D27-27A9-4E86-9890-8FCB0293A3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O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ZADNJEGA N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avokotnik 6"/>
          <p:cNvSpPr/>
          <p:nvPr/>
        </p:nvSpPr>
        <p:spPr>
          <a:xfrm>
            <a:off x="263520" y="2144880"/>
            <a:ext cx="835344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REJ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(predstavljeno decem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 IZVAJANJ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 (zaključeno: do 20. 6. 2015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6196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6b6bcf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928520"/>
            <a:ext cx="8229600" cy="560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vrednotenje četrte razvojne prioritete ESS 2007-2013 'Spodbujanje socialne vključenosti in zagotavljanje enakih možnost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EDMET KONČNEGA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rumenti, ki so se izvajali v okviru treh prednostnih usmeritev četrte razvojne prioritete ESS 2007-2013 'Spodbujanje socialne vključenosti in zagotavljanje enakih možnosti', in sicer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1. Enake možnosti na trgu dela in krepitev socialne vključenosti (12 instrumentov, razpoložljive pravice porabe: 43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2. Povečati dostopnost in enakost možnosti v sistemu vzgoje in izobraževanja (10 instrumentov, razpoložljive pravice porabe: 7,9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3: Dvig zaposljivosti ranljivih družbenih skupin in podpora njihovi socialni vključenosti (12 instrumentov, razpoložljive pravice porabe: 15,2 M€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vajalec: PITIJA svetovanje, d.o.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FC3C-55E3-4EE1-A00B-87BA03304F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UGOTOVITEV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eliko ugotovljenih pomanjkljivosti glede izvajanja četrte razvojne prioritete je v novem finančnem obdobju 2014-2020  odpravljeni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novo finančno obdobje je pripravljena jasna in podrobna metodologija zbiranja podatkov za kazalnike, ki vključuje tudi definicije kazalnik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anljive ciljne skupine so jasno definirane že v Operativnem programu, poenotene definicije pa naj bi se upoštevale tudi v razpisih posameznih posredniških te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sakega končnega upravičenca naj bi se spremljalo ob vključitvi v program in ob izstopu iz programa. Na ta način naj bi se zagotovilo, da bo oseba obravnavana le enkr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b6bcf"/>
                </a:solidFill>
                <a:latin typeface="Arial"/>
              </a:rPr>
              <a:t>S stališča doseganja ciljnih vrednosti kazalnikov ali naslavljanja specifičnih ciljev četrte razvojne prioritete, bi lahko zaključili, da je bila 4. RP izvedena uspeš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KONČNO POROČILO: 20. 6.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poročilo bo objavljeno na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5444-0F6B-431F-A7F8-F3441B4E9C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</dc:creator>
  <dc:description/>
  <dc:language>en-US</dc:language>
  <cp:lastModifiedBy>Petra Jerina</cp:lastModifiedBy>
  <cp:lastPrinted>2015-06-01T09:23:34Z</cp:lastPrinted>
  <dcterms:modified xsi:type="dcterms:W3CDTF">2015-06-03T06:54:45Z</dcterms:modified>
  <cp:revision>52</cp:revision>
  <dc:subject/>
  <dc:title>Naslov</dc:title>
</cp:coreProperties>
</file>